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02FAA-F859-4592-92FC-DA8A8BC51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0EB9C-5CD1-4063-8785-FD492A583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A6205-687F-4748-9404-7080106FB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9D615-A67F-46D0-A2C2-003C6F175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2E412-E3C2-423F-B167-79E65328D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B36DF-2CA1-4DCF-8B2C-1FC315C33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2E574-1C97-4F40-9FD1-53DD7FD95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35719-069E-43BC-AE3A-AF37662B4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58D77-9779-4ADD-B940-DBDBCA484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120C6-CB8B-49FF-982E-2B7FE41D1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C8431-D066-4D58-B01D-21C6BCD0E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85EF2-DF48-4572-BDF6-F4B5E9643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B7CD0-C04A-4E49-84F8-F6A83C8CA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00EB4-C5CC-434F-BC1A-4B609E43D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8F603-3AC8-4944-9767-67D6D773F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DF7A4-0E6C-43EB-9B86-908DBA9AA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369A6-C5FB-48AE-99B5-DF2353288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6F70D-97EE-4627-834D-B6549094D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8B86E-FD02-49B1-92EB-ED288BF0D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1372B-CE36-43F4-8BC5-9AC73D7FB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B85F6-EEB4-40E9-90A5-19C40B1C9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B94BF-B2D0-4985-A1D8-4B864D9B0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635D2-B620-4ABD-8612-927A1DE73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0F24B-B887-4ACE-921E-2E7D3E6C1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2BEDE-5F66-42F1-90A1-8C619C933B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03DE5-E72C-4651-8266-864019921DC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4" descr="podloga"/>
          <p:cNvPicPr/>
          <p:nvPr/>
        </p:nvPicPr>
        <p:blipFill>
          <a:blip r:embed="rId1"/>
          <a:stretch/>
        </p:blipFill>
        <p:spPr>
          <a:xfrm>
            <a:off x="649440" y="482760"/>
            <a:ext cx="7921440" cy="593064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5"/>
          <p:cNvSpPr/>
          <p:nvPr/>
        </p:nvSpPr>
        <p:spPr>
          <a:xfrm>
            <a:off x="611280" y="5013360"/>
            <a:ext cx="777240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Катарина Парезанови</a:t>
            </a:r>
            <a:r>
              <a:rPr b="0" lang="sr-Latn-CS" sz="2400" spc="-1" strike="noStrike">
                <a:solidFill>
                  <a:srgbClr val="080808"/>
                </a:solidFill>
                <a:latin typeface="Arial"/>
              </a:rPr>
              <a:t>ћ Или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1128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Рехабилитација трауматоло</a:t>
            </a:r>
            <a:r>
              <a:rPr b="1" lang="sr-Latn-CS" sz="4000" spc="-1" strike="noStrike">
                <a:solidFill>
                  <a:srgbClr val="008000"/>
                </a:solidFill>
                <a:latin typeface="Arial"/>
              </a:rPr>
              <a:t>ш</a:t>
            </a: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ких</a:t>
            </a:r>
            <a:r>
              <a:rPr b="1" lang="sr-Latn-CS" sz="4000" spc="-1" strike="noStrike">
                <a:solidFill>
                  <a:srgbClr val="008000"/>
                </a:solidFill>
                <a:latin typeface="Arial"/>
              </a:rPr>
              <a:t> </a:t>
            </a:r>
            <a:br>
              <a:rPr sz="4000"/>
            </a:br>
            <a:r>
              <a:rPr b="1" lang="sr-Latn-CS" sz="4000" spc="-1" strike="noStrike">
                <a:solidFill>
                  <a:srgbClr val="008000"/>
                </a:solidFill>
                <a:latin typeface="Arial"/>
              </a:rPr>
              <a:t>болесника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26560" y="244440"/>
            <a:ext cx="80154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b7"/>
                </a:solidFill>
                <a:latin typeface="Times New Roman"/>
                <a:ea typeface="Times New Roman"/>
              </a:rPr>
              <a:t>КОШТАНИ ПРЕЛОМИ</a:t>
            </a:r>
            <a:r>
              <a:rPr b="1" lang="en-US" sz="4400" spc="-1" strike="noStrike">
                <a:solidFill>
                  <a:srgbClr val="ffffb7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835280" y="1904760"/>
            <a:ext cx="61927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емато</a:t>
            </a:r>
            <a:r>
              <a:rPr b="1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о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ганиз</a:t>
            </a:r>
            <a:r>
              <a:rPr b="1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ц</a:t>
            </a:r>
            <a:r>
              <a:rPr b="1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ја </a:t>
            </a: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емато</a:t>
            </a:r>
            <a:r>
              <a:rPr b="1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а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вар</a:t>
            </a:r>
            <a:r>
              <a:rPr b="1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ње калус</a:t>
            </a:r>
            <a:r>
              <a:rPr b="1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конструкција к</a:t>
            </a:r>
            <a:r>
              <a:rPr b="1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уса.</a:t>
            </a:r>
            <a:r>
              <a:rPr b="1" lang="en-GB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26560" y="244440"/>
            <a:ext cx="80154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ffffb7"/>
                </a:solidFill>
                <a:latin typeface="Times New Roman"/>
              </a:rPr>
              <a:t>Успорено</a:t>
            </a:r>
            <a:r>
              <a:rPr b="1" lang="en-GB" sz="4400" spc="-1" strike="noStrike">
                <a:solidFill>
                  <a:srgbClr val="ffffb7"/>
                </a:solidFill>
                <a:latin typeface="Times New Roman"/>
                <a:ea typeface="Times New Roman"/>
              </a:rPr>
              <a:t> стварање калуса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9106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лош пoло</a:t>
            </a:r>
            <a:r>
              <a:rPr b="0" lang="sr-CS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ж</a:t>
            </a:r>
            <a:r>
              <a:rPr b="0" lang="en-GB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ај фр</a:t>
            </a:r>
            <a:r>
              <a:rPr b="0" lang="sr-CS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а</a:t>
            </a:r>
            <a:r>
              <a:rPr b="0" lang="en-GB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гменат</a:t>
            </a:r>
            <a:r>
              <a:rPr b="0" lang="sr-CS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а</a:t>
            </a:r>
            <a:r>
              <a:rPr b="0" lang="en-GB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велика д</a:t>
            </a:r>
            <a:r>
              <a:rPr b="0" lang="sr-CS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и</a:t>
            </a:r>
            <a:r>
              <a:rPr b="0" lang="en-GB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слокациј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н</a:t>
            </a:r>
            <a:r>
              <a:rPr b="0" lang="en-GB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епот</a:t>
            </a:r>
            <a:r>
              <a:rPr b="0" lang="sr-CS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п</a:t>
            </a:r>
            <a:r>
              <a:rPr b="0" lang="en-GB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уна ил</a:t>
            </a:r>
            <a:r>
              <a:rPr b="0" lang="sr-CS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и</a:t>
            </a:r>
            <a:r>
              <a:rPr b="0" lang="en-GB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 неад</a:t>
            </a:r>
            <a:r>
              <a:rPr b="0" lang="sr-CS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е</a:t>
            </a:r>
            <a:r>
              <a:rPr b="0" lang="en-GB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кв</a:t>
            </a:r>
            <a:r>
              <a:rPr b="0" lang="sr-CS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а</a:t>
            </a:r>
            <a:r>
              <a:rPr b="0" lang="en-GB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тна имоб</a:t>
            </a:r>
            <a:r>
              <a:rPr b="0" lang="sr-CS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и</a:t>
            </a:r>
            <a:r>
              <a:rPr b="0" lang="en-GB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лизац</a:t>
            </a:r>
            <a:r>
              <a:rPr b="0" lang="sr-CS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и</a:t>
            </a:r>
            <a:r>
              <a:rPr b="0" lang="en-GB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јa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ко</a:t>
            </a:r>
            <a:r>
              <a:rPr b="0" lang="sr-CS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н</a:t>
            </a:r>
            <a:r>
              <a:rPr b="0" lang="en-GB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сти</a:t>
            </a:r>
            <a:r>
              <a:rPr b="0" lang="sr-CS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т</a:t>
            </a:r>
            <a:r>
              <a:rPr b="0" lang="en-GB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уц</a:t>
            </a:r>
            <a:r>
              <a:rPr b="0" lang="sr-CS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и</a:t>
            </a:r>
            <a:r>
              <a:rPr b="0" lang="en-GB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ј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и</a:t>
            </a:r>
            <a:r>
              <a:rPr b="0" lang="sr-CS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н</a:t>
            </a:r>
            <a:r>
              <a:rPr b="0" lang="en-GB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терку</a:t>
            </a:r>
            <a:r>
              <a:rPr b="0" lang="sr-CS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ре</a:t>
            </a:r>
            <a:r>
              <a:rPr b="0" lang="en-GB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нт</a:t>
            </a:r>
            <a:r>
              <a:rPr b="0" lang="sr-CS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н</a:t>
            </a:r>
            <a:r>
              <a:rPr b="0" lang="en-GB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а об</a:t>
            </a:r>
            <a:r>
              <a:rPr b="0" lang="sr-CS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о</a:t>
            </a:r>
            <a:r>
              <a:rPr b="0" lang="en-GB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љења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Дефин</a:t>
            </a:r>
            <a:r>
              <a:rPr b="0" lang="sr-CS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и</a:t>
            </a:r>
            <a:r>
              <a:rPr b="0" lang="en-GB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т</a:t>
            </a:r>
            <a:r>
              <a:rPr b="0" lang="sr-CS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и</a:t>
            </a:r>
            <a:r>
              <a:rPr b="0" lang="en-GB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в</a:t>
            </a:r>
            <a:r>
              <a:rPr b="0" lang="sr-CS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н</a:t>
            </a:r>
            <a:r>
              <a:rPr b="0" lang="en-GB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о несра</a:t>
            </a:r>
            <a:r>
              <a:rPr b="0" lang="sr-CS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с</a:t>
            </a:r>
            <a:r>
              <a:rPr b="0" lang="en-GB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т</a:t>
            </a:r>
            <a:r>
              <a:rPr b="0" lang="sr-CS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а</a:t>
            </a:r>
            <a:r>
              <a:rPr b="0" lang="en-GB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ње ј</a:t>
            </a:r>
            <a:r>
              <a:rPr b="0" lang="sr-CS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е</a:t>
            </a:r>
            <a:r>
              <a:rPr b="0" lang="en-GB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 псеудоарт</a:t>
            </a:r>
            <a:r>
              <a:rPr b="0" lang="sr-CS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ро</a:t>
            </a:r>
            <a:r>
              <a:rPr b="0" lang="en-GB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за </a:t>
            </a:r>
            <a:br>
              <a:rPr sz="2800"/>
            </a:br>
            <a:r>
              <a:rPr b="0" lang="en-GB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(ствар</a:t>
            </a:r>
            <a:r>
              <a:rPr b="0" lang="sr-CS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а</a:t>
            </a:r>
            <a:r>
              <a:rPr b="0" lang="en-GB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ње ла</a:t>
            </a:r>
            <a:r>
              <a:rPr b="0" lang="sr-CS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ж</a:t>
            </a:r>
            <a:r>
              <a:rPr b="0" lang="en-GB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ног </a:t>
            </a:r>
            <a:r>
              <a:rPr b="0" lang="sr-CS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зг</a:t>
            </a:r>
            <a:r>
              <a:rPr b="0" lang="en-GB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лоба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942320" cy="143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b7"/>
                </a:solidFill>
                <a:latin typeface="Times New Roman"/>
                <a:ea typeface="Times New Roman"/>
              </a:rPr>
              <a:t>Време зарастања прелома костију</a:t>
            </a: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grpSp>
        <p:nvGrpSpPr>
          <p:cNvPr id="125" name="Group 161"/>
          <p:cNvGrpSpPr/>
          <p:nvPr/>
        </p:nvGrpSpPr>
        <p:grpSpPr>
          <a:xfrm>
            <a:off x="1042920" y="1989000"/>
            <a:ext cx="7561440" cy="3384720"/>
            <a:chOff x="1042920" y="1989000"/>
            <a:chExt cx="7561440" cy="3384720"/>
          </a:xfrm>
        </p:grpSpPr>
        <p:sp>
          <p:nvSpPr>
            <p:cNvPr id="126" name="AutoShape 162"/>
            <p:cNvSpPr/>
            <p:nvPr/>
          </p:nvSpPr>
          <p:spPr>
            <a:xfrm>
              <a:off x="1042920" y="1989000"/>
              <a:ext cx="7561440" cy="338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7" name="Group 163"/>
            <p:cNvGrpSpPr/>
            <p:nvPr/>
          </p:nvGrpSpPr>
          <p:grpSpPr>
            <a:xfrm>
              <a:off x="1042920" y="1989000"/>
              <a:ext cx="7548480" cy="3366720"/>
              <a:chOff x="1042920" y="1989000"/>
              <a:chExt cx="7548480" cy="3366720"/>
            </a:xfrm>
          </p:grpSpPr>
          <p:grpSp>
            <p:nvGrpSpPr>
              <p:cNvPr id="128" name="Group 164"/>
              <p:cNvGrpSpPr/>
              <p:nvPr/>
            </p:nvGrpSpPr>
            <p:grpSpPr>
              <a:xfrm>
                <a:off x="1042920" y="1989000"/>
                <a:ext cx="1377360" cy="1812600"/>
                <a:chOff x="1042920" y="1989000"/>
                <a:chExt cx="1377360" cy="1812600"/>
              </a:xfrm>
            </p:grpSpPr>
            <p:sp>
              <p:nvSpPr>
                <p:cNvPr id="129" name="Rectangle 165"/>
                <p:cNvSpPr/>
                <p:nvPr/>
              </p:nvSpPr>
              <p:spPr>
                <a:xfrm>
                  <a:off x="1129680" y="1989000"/>
                  <a:ext cx="1204200" cy="181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5880" rIns="65880" tIns="32760" bIns="32760" anchor="ctr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400" spc="-1" strike="noStrike">
                      <a:solidFill>
                        <a:srgbClr val="ffffff"/>
                      </a:solidFill>
                      <a:latin typeface="Times New Roman"/>
                    </a:rPr>
                    <a:t>Врста</a:t>
                  </a:r>
                  <a:r>
                    <a:rPr b="1" lang="en-GB" sz="1400" spc="-1" strike="noStrike">
                      <a:solidFill>
                        <a:srgbClr val="ffffff"/>
                      </a:solidFill>
                      <a:latin typeface="France YU"/>
                    </a:rPr>
                    <a:t> </a:t>
                  </a:r>
                  <a:r>
                    <a:rPr b="1" lang="en-GB" sz="1400" spc="-1" strike="noStrike">
                      <a:solidFill>
                        <a:srgbClr val="ffffff"/>
                      </a:solidFill>
                      <a:latin typeface="Times New Roman"/>
                    </a:rPr>
                    <a:t>кости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0" name="Rectangle 166"/>
                <p:cNvSpPr/>
                <p:nvPr/>
              </p:nvSpPr>
              <p:spPr>
                <a:xfrm>
                  <a:off x="1042920" y="1989000"/>
                  <a:ext cx="1377360" cy="181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1" name="Group 167"/>
              <p:cNvGrpSpPr/>
              <p:nvPr/>
            </p:nvGrpSpPr>
            <p:grpSpPr>
              <a:xfrm>
                <a:off x="2420640" y="1989000"/>
                <a:ext cx="1367280" cy="1812600"/>
                <a:chOff x="2420640" y="1989000"/>
                <a:chExt cx="1367280" cy="1812600"/>
              </a:xfrm>
            </p:grpSpPr>
            <p:sp>
              <p:nvSpPr>
                <p:cNvPr id="132" name="Rectangle 168"/>
                <p:cNvSpPr/>
                <p:nvPr/>
              </p:nvSpPr>
              <p:spPr>
                <a:xfrm>
                  <a:off x="2507400" y="1989000"/>
                  <a:ext cx="1194120" cy="181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5880" rIns="65880" tIns="32760" bIns="3276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400" spc="-1" strike="noStrike">
                      <a:solidFill>
                        <a:srgbClr val="ffffff"/>
                      </a:solidFill>
                      <a:latin typeface="Times New Roman"/>
                    </a:rPr>
                    <a:t>бутна кост, вертебра,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400" spc="-1" strike="noStrike">
                      <a:solidFill>
                        <a:srgbClr val="ffffff"/>
                      </a:solidFill>
                      <a:latin typeface="Times New Roman"/>
                    </a:rPr>
                    <a:t>карлица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3" name="Rectangle 169"/>
                <p:cNvSpPr/>
                <p:nvPr/>
              </p:nvSpPr>
              <p:spPr>
                <a:xfrm>
                  <a:off x="2420640" y="1989000"/>
                  <a:ext cx="1367280" cy="181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4" name="Group 170"/>
              <p:cNvGrpSpPr/>
              <p:nvPr/>
            </p:nvGrpSpPr>
            <p:grpSpPr>
              <a:xfrm>
                <a:off x="3788640" y="1989000"/>
                <a:ext cx="1200600" cy="1812600"/>
                <a:chOff x="3788640" y="1989000"/>
                <a:chExt cx="1200600" cy="1812600"/>
              </a:xfrm>
            </p:grpSpPr>
            <p:sp>
              <p:nvSpPr>
                <p:cNvPr id="135" name="Rectangle 171"/>
                <p:cNvSpPr/>
                <p:nvPr/>
              </p:nvSpPr>
              <p:spPr>
                <a:xfrm>
                  <a:off x="3875400" y="1989000"/>
                  <a:ext cx="1027080" cy="181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5880" rIns="65880" tIns="32760" bIns="32760" anchor="ctr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400" spc="-1" strike="noStrike">
                      <a:solidFill>
                        <a:srgbClr val="ffffff"/>
                      </a:solidFill>
                      <a:latin typeface="Times New Roman"/>
                    </a:rPr>
                    <a:t>подколеница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400" spc="-1" strike="noStrike">
                      <a:solidFill>
                        <a:srgbClr val="ffffff"/>
                      </a:solidFill>
                      <a:latin typeface="France YU"/>
                    </a:rPr>
                    <a:t>(</a:t>
                  </a:r>
                  <a:r>
                    <a:rPr b="1" lang="en-GB" sz="1400" spc="-1" strike="noStrike">
                      <a:solidFill>
                        <a:srgbClr val="ffffff"/>
                      </a:solidFill>
                      <a:latin typeface="Times New Roman"/>
                    </a:rPr>
                    <a:t>тибиа</a:t>
                  </a:r>
                  <a:r>
                    <a:rPr b="1" lang="en-GB" sz="1400" spc="-1" strike="noStrike">
                      <a:solidFill>
                        <a:srgbClr val="ffffff"/>
                      </a:solidFill>
                      <a:latin typeface="France YU"/>
                    </a:rPr>
                    <a:t>)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72"/>
                <p:cNvSpPr/>
                <p:nvPr/>
              </p:nvSpPr>
              <p:spPr>
                <a:xfrm>
                  <a:off x="3788640" y="1989000"/>
                  <a:ext cx="1200600" cy="181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7" name="Group 173"/>
              <p:cNvGrpSpPr/>
              <p:nvPr/>
            </p:nvGrpSpPr>
            <p:grpSpPr>
              <a:xfrm>
                <a:off x="4989600" y="1989000"/>
                <a:ext cx="1200240" cy="1812600"/>
                <a:chOff x="4989600" y="1989000"/>
                <a:chExt cx="1200240" cy="1812600"/>
              </a:xfrm>
            </p:grpSpPr>
            <p:sp>
              <p:nvSpPr>
                <p:cNvPr id="138" name="Rectangle 174"/>
                <p:cNvSpPr/>
                <p:nvPr/>
              </p:nvSpPr>
              <p:spPr>
                <a:xfrm>
                  <a:off x="5075640" y="1989000"/>
                  <a:ext cx="1027080" cy="181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5880" rIns="65880" tIns="32760" bIns="32760" anchor="ctr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400" spc="-1" strike="noStrike">
                      <a:solidFill>
                        <a:srgbClr val="ffffff"/>
                      </a:solidFill>
                      <a:latin typeface="Times New Roman"/>
                    </a:rPr>
                    <a:t>подактица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9" name="Rectangle 175"/>
                <p:cNvSpPr/>
                <p:nvPr/>
              </p:nvSpPr>
              <p:spPr>
                <a:xfrm>
                  <a:off x="4989600" y="1989000"/>
                  <a:ext cx="1200240" cy="181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" name="Group 176"/>
              <p:cNvGrpSpPr/>
              <p:nvPr/>
            </p:nvGrpSpPr>
            <p:grpSpPr>
              <a:xfrm>
                <a:off x="6190560" y="1989000"/>
                <a:ext cx="1200240" cy="1812600"/>
                <a:chOff x="6190560" y="1989000"/>
                <a:chExt cx="1200240" cy="1812600"/>
              </a:xfrm>
            </p:grpSpPr>
            <p:sp>
              <p:nvSpPr>
                <p:cNvPr id="141" name="Rectangle 177"/>
                <p:cNvSpPr/>
                <p:nvPr/>
              </p:nvSpPr>
              <p:spPr>
                <a:xfrm>
                  <a:off x="6276600" y="1989000"/>
                  <a:ext cx="1027080" cy="181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5880" rIns="65880" tIns="32760" bIns="3276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400" spc="-1" strike="noStrike">
                      <a:solidFill>
                        <a:srgbClr val="ffffff"/>
                      </a:solidFill>
                      <a:latin typeface="Times New Roman"/>
                    </a:rPr>
                    <a:t>кљуцна</a:t>
                  </a:r>
                  <a:r>
                    <a:rPr b="1" lang="en-GB" sz="1400" spc="-1" strike="noStrike">
                      <a:solidFill>
                        <a:srgbClr val="ffffff"/>
                      </a:solidFill>
                      <a:latin typeface="France YU"/>
                    </a:rPr>
                    <a:t> </a:t>
                  </a:r>
                  <a:r>
                    <a:rPr b="1" lang="en-GB" sz="1400" spc="-1" strike="noStrike">
                      <a:solidFill>
                        <a:srgbClr val="ffffff"/>
                      </a:solidFill>
                      <a:latin typeface="Times New Roman"/>
                    </a:rPr>
                    <a:t>кост</a:t>
                  </a:r>
                  <a:r>
                    <a:rPr b="1" lang="en-GB" sz="1400" spc="-1" strike="noStrike">
                      <a:solidFill>
                        <a:srgbClr val="ffffff"/>
                      </a:solidFill>
                      <a:latin typeface="France YU"/>
                    </a:rPr>
                    <a:t> 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400" spc="-1" strike="noStrike">
                      <a:solidFill>
                        <a:srgbClr val="ffffff"/>
                      </a:solidFill>
                      <a:latin typeface="Times New Roman"/>
                    </a:rPr>
                    <a:t>фибула</a:t>
                  </a:r>
                  <a:r>
                    <a:rPr b="1" lang="en-GB" sz="1400" spc="-1" strike="noStrike">
                      <a:solidFill>
                        <a:srgbClr val="ffffff"/>
                      </a:solidFill>
                      <a:latin typeface="France YU"/>
                    </a:rPr>
                    <a:t>,</a:t>
                  </a:r>
                  <a:r>
                    <a:rPr b="1" lang="en-GB" sz="1400" spc="-1" strike="noStrike">
                      <a:solidFill>
                        <a:srgbClr val="ffffff"/>
                      </a:solidFill>
                      <a:latin typeface="Times New Roman"/>
                    </a:rPr>
                    <a:t>ребра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400" spc="-1" strike="noStrike">
                      <a:solidFill>
                        <a:srgbClr val="ffffff"/>
                      </a:solidFill>
                      <a:latin typeface="Times New Roman"/>
                    </a:rPr>
                    <a:t>метатарсус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78"/>
                <p:cNvSpPr/>
                <p:nvPr/>
              </p:nvSpPr>
              <p:spPr>
                <a:xfrm>
                  <a:off x="6190560" y="1989000"/>
                  <a:ext cx="1200240" cy="181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3" name="Group 179"/>
              <p:cNvGrpSpPr/>
              <p:nvPr/>
            </p:nvGrpSpPr>
            <p:grpSpPr>
              <a:xfrm>
                <a:off x="7391160" y="1989000"/>
                <a:ext cx="1200240" cy="1812600"/>
                <a:chOff x="7391160" y="1989000"/>
                <a:chExt cx="1200240" cy="1812600"/>
              </a:xfrm>
            </p:grpSpPr>
            <p:sp>
              <p:nvSpPr>
                <p:cNvPr id="144" name="Rectangle 180"/>
                <p:cNvSpPr/>
                <p:nvPr/>
              </p:nvSpPr>
              <p:spPr>
                <a:xfrm>
                  <a:off x="7477920" y="1989000"/>
                  <a:ext cx="1027080" cy="181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5880" rIns="65880" tIns="32760" bIns="3276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400" spc="-1" strike="noStrike">
                      <a:solidFill>
                        <a:srgbClr val="ffffff"/>
                      </a:solidFill>
                      <a:latin typeface="Times New Roman"/>
                    </a:rPr>
                    <a:t>метакарпус</a:t>
                  </a:r>
                  <a:r>
                    <a:rPr b="1" lang="en-GB" sz="1400" spc="-1" strike="noStrike">
                      <a:solidFill>
                        <a:srgbClr val="ffffff"/>
                      </a:solidFill>
                      <a:latin typeface="France YU"/>
                    </a:rPr>
                    <a:t>, </a:t>
                  </a:r>
                  <a:r>
                    <a:rPr b="1" lang="en-GB" sz="1400" spc="-1" strike="noStrike">
                      <a:solidFill>
                        <a:srgbClr val="ffffff"/>
                      </a:solidFill>
                      <a:latin typeface="Times New Roman"/>
                    </a:rPr>
                    <a:t>фаланге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5" name="Rectangle 181"/>
                <p:cNvSpPr/>
                <p:nvPr/>
              </p:nvSpPr>
              <p:spPr>
                <a:xfrm>
                  <a:off x="7391160" y="1989000"/>
                  <a:ext cx="1200240" cy="181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6" name="Group 182"/>
              <p:cNvGrpSpPr/>
              <p:nvPr/>
            </p:nvGrpSpPr>
            <p:grpSpPr>
              <a:xfrm>
                <a:off x="1042920" y="3801960"/>
                <a:ext cx="1377360" cy="1553760"/>
                <a:chOff x="1042920" y="3801960"/>
                <a:chExt cx="1377360" cy="1553760"/>
              </a:xfrm>
            </p:grpSpPr>
            <p:sp>
              <p:nvSpPr>
                <p:cNvPr id="147" name="Rectangle 183"/>
                <p:cNvSpPr/>
                <p:nvPr/>
              </p:nvSpPr>
              <p:spPr>
                <a:xfrm>
                  <a:off x="1129680" y="3801960"/>
                  <a:ext cx="1204200" cy="155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5880" rIns="65880" tIns="32760" bIns="3276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400" spc="-1" strike="noStrike">
                      <a:solidFill>
                        <a:srgbClr val="ffffff"/>
                      </a:solidFill>
                      <a:latin typeface="Times New Roman"/>
                    </a:rPr>
                    <a:t>време</a:t>
                  </a:r>
                  <a:r>
                    <a:rPr b="1" lang="en-GB" sz="1400" spc="-1" strike="noStrike">
                      <a:solidFill>
                        <a:srgbClr val="ffffff"/>
                      </a:solidFill>
                      <a:latin typeface="France YU"/>
                    </a:rPr>
                    <a:t> </a:t>
                  </a:r>
                  <a:r>
                    <a:rPr b="1" lang="en-GB" sz="1400" spc="-1" strike="noStrike">
                      <a:solidFill>
                        <a:srgbClr val="ffffff"/>
                      </a:solidFill>
                      <a:latin typeface="Times New Roman"/>
                    </a:rPr>
                    <a:t>зарастања</a:t>
                  </a:r>
                  <a:r>
                    <a:rPr b="1" lang="en-GB" sz="1400" spc="-1" strike="noStrike">
                      <a:solidFill>
                        <a:srgbClr val="ffffff"/>
                      </a:solidFill>
                      <a:latin typeface="France YU"/>
                    </a:rPr>
                    <a:t> </a:t>
                  </a:r>
                  <a:r>
                    <a:rPr b="1" lang="en-GB" sz="1400" spc="-1" strike="noStrike">
                      <a:solidFill>
                        <a:srgbClr val="ffffff"/>
                      </a:solidFill>
                      <a:latin typeface="Times New Roman"/>
                    </a:rPr>
                    <a:t>у</a:t>
                  </a:r>
                  <a:r>
                    <a:rPr b="1" lang="en-GB" sz="1400" spc="-1" strike="noStrike">
                      <a:solidFill>
                        <a:srgbClr val="ffffff"/>
                      </a:solidFill>
                      <a:latin typeface="France YU"/>
                    </a:rPr>
                    <a:t> </a:t>
                  </a:r>
                  <a:r>
                    <a:rPr b="1" lang="en-GB" sz="1400" spc="-1" strike="noStrike">
                      <a:solidFill>
                        <a:srgbClr val="ffffff"/>
                      </a:solidFill>
                      <a:latin typeface="Times New Roman"/>
                    </a:rPr>
                    <a:t>месецима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8" name="Rectangle 184"/>
                <p:cNvSpPr/>
                <p:nvPr/>
              </p:nvSpPr>
              <p:spPr>
                <a:xfrm>
                  <a:off x="1042920" y="3801960"/>
                  <a:ext cx="1377360" cy="155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9" name="Group 185"/>
              <p:cNvGrpSpPr/>
              <p:nvPr/>
            </p:nvGrpSpPr>
            <p:grpSpPr>
              <a:xfrm>
                <a:off x="2420640" y="3801960"/>
                <a:ext cx="1367280" cy="1553760"/>
                <a:chOff x="2420640" y="3801960"/>
                <a:chExt cx="1367280" cy="1553760"/>
              </a:xfrm>
            </p:grpSpPr>
            <p:sp>
              <p:nvSpPr>
                <p:cNvPr id="150" name="Rectangle 186"/>
                <p:cNvSpPr/>
                <p:nvPr/>
              </p:nvSpPr>
              <p:spPr>
                <a:xfrm>
                  <a:off x="2507400" y="3801960"/>
                  <a:ext cx="1194120" cy="155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5880" rIns="65880" tIns="32760" bIns="32760" anchor="ctr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400" spc="-1" strike="noStrike">
                      <a:solidFill>
                        <a:srgbClr val="ffffff"/>
                      </a:solidFill>
                      <a:latin typeface="Arial"/>
                    </a:rPr>
                    <a:t>3 meseca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87"/>
                <p:cNvSpPr/>
                <p:nvPr/>
              </p:nvSpPr>
              <p:spPr>
                <a:xfrm>
                  <a:off x="2420640" y="3801960"/>
                  <a:ext cx="1367280" cy="155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2" name="Group 188"/>
              <p:cNvGrpSpPr/>
              <p:nvPr/>
            </p:nvGrpSpPr>
            <p:grpSpPr>
              <a:xfrm>
                <a:off x="3788640" y="3801960"/>
                <a:ext cx="1200600" cy="1553760"/>
                <a:chOff x="3788640" y="3801960"/>
                <a:chExt cx="1200600" cy="1553760"/>
              </a:xfrm>
            </p:grpSpPr>
            <p:sp>
              <p:nvSpPr>
                <p:cNvPr id="153" name="Rectangle 189"/>
                <p:cNvSpPr/>
                <p:nvPr/>
              </p:nvSpPr>
              <p:spPr>
                <a:xfrm>
                  <a:off x="3875400" y="3801960"/>
                  <a:ext cx="1027080" cy="155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5880" rIns="65880" tIns="32760" bIns="32760" anchor="ctr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400" spc="-1" strike="noStrike">
                      <a:solidFill>
                        <a:srgbClr val="ffffff"/>
                      </a:solidFill>
                      <a:latin typeface="Arial"/>
                    </a:rPr>
                    <a:t>2 meseca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4" name="Rectangle 190"/>
                <p:cNvSpPr/>
                <p:nvPr/>
              </p:nvSpPr>
              <p:spPr>
                <a:xfrm>
                  <a:off x="3788640" y="3801960"/>
                  <a:ext cx="1200600" cy="155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5" name="Group 191"/>
              <p:cNvGrpSpPr/>
              <p:nvPr/>
            </p:nvGrpSpPr>
            <p:grpSpPr>
              <a:xfrm>
                <a:off x="4989600" y="3801960"/>
                <a:ext cx="1200240" cy="1553760"/>
                <a:chOff x="4989600" y="3801960"/>
                <a:chExt cx="1200240" cy="1553760"/>
              </a:xfrm>
            </p:grpSpPr>
            <p:sp>
              <p:nvSpPr>
                <p:cNvPr id="156" name="Rectangle 192"/>
                <p:cNvSpPr/>
                <p:nvPr/>
              </p:nvSpPr>
              <p:spPr>
                <a:xfrm>
                  <a:off x="5075640" y="3801960"/>
                  <a:ext cx="1027080" cy="155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5880" rIns="65880" tIns="32760" bIns="3276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400" spc="-1" strike="noStrike">
                      <a:solidFill>
                        <a:srgbClr val="ffffff"/>
                      </a:solidFill>
                      <a:latin typeface="Arial"/>
                    </a:rPr>
                    <a:t>6 </a:t>
                  </a:r>
                  <a:r>
                    <a:rPr b="1" lang="en-GB" sz="1400" spc="-1" strike="noStrike">
                      <a:solidFill>
                        <a:srgbClr val="ffffff"/>
                      </a:solidFill>
                      <a:latin typeface="Times New Roman"/>
                    </a:rPr>
                    <a:t>недеља</a:t>
                  </a:r>
                  <a:r>
                    <a:rPr b="1" lang="en-GB" sz="1400" spc="-1" strike="noStrike">
                      <a:solidFill>
                        <a:srgbClr val="ffffff"/>
                      </a:solidFill>
                      <a:latin typeface="Arial"/>
                    </a:rPr>
                    <a:t> </a:t>
                  </a:r>
                  <a:r>
                    <a:rPr b="1" lang="en-GB" sz="1400" spc="-1" strike="noStrike">
                      <a:solidFill>
                        <a:srgbClr val="ffffff"/>
                      </a:solidFill>
                      <a:latin typeface="Times New Roman"/>
                    </a:rPr>
                    <a:t>до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400" spc="-1" strike="noStrike">
                      <a:solidFill>
                        <a:srgbClr val="ffffff"/>
                      </a:solidFill>
                      <a:latin typeface="Arial"/>
                    </a:rPr>
                    <a:t> </a:t>
                  </a:r>
                  <a:r>
                    <a:rPr b="1" lang="en-GB" sz="1400" spc="-1" strike="noStrike">
                      <a:solidFill>
                        <a:srgbClr val="ffffff"/>
                      </a:solidFill>
                      <a:latin typeface="Arial"/>
                    </a:rPr>
                    <a:t>2 </a:t>
                  </a:r>
                  <a:r>
                    <a:rPr b="1" lang="en-GB" sz="1400" spc="-1" strike="noStrike">
                      <a:solidFill>
                        <a:srgbClr val="ffffff"/>
                      </a:solidFill>
                      <a:latin typeface="Times New Roman"/>
                    </a:rPr>
                    <a:t>месеца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7" name="Rectangle 193"/>
                <p:cNvSpPr/>
                <p:nvPr/>
              </p:nvSpPr>
              <p:spPr>
                <a:xfrm>
                  <a:off x="4989600" y="3801960"/>
                  <a:ext cx="1200240" cy="155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8" name="Group 194"/>
              <p:cNvGrpSpPr/>
              <p:nvPr/>
            </p:nvGrpSpPr>
            <p:grpSpPr>
              <a:xfrm>
                <a:off x="6190560" y="3801960"/>
                <a:ext cx="1200240" cy="1553760"/>
                <a:chOff x="6190560" y="3801960"/>
                <a:chExt cx="1200240" cy="1553760"/>
              </a:xfrm>
            </p:grpSpPr>
            <p:sp>
              <p:nvSpPr>
                <p:cNvPr id="159" name="Rectangle 195"/>
                <p:cNvSpPr/>
                <p:nvPr/>
              </p:nvSpPr>
              <p:spPr>
                <a:xfrm>
                  <a:off x="6276600" y="3801960"/>
                  <a:ext cx="1027080" cy="155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5880" rIns="65880" tIns="32760" bIns="3276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400" spc="-1" strike="noStrike">
                      <a:solidFill>
                        <a:srgbClr val="ffffff"/>
                      </a:solidFill>
                      <a:latin typeface="Times New Roman"/>
                    </a:rPr>
                    <a:t>месец</a:t>
                  </a:r>
                  <a:r>
                    <a:rPr b="1" lang="en-GB" sz="1400" spc="-1" strike="noStrike">
                      <a:solidFill>
                        <a:srgbClr val="ffffff"/>
                      </a:solidFill>
                      <a:latin typeface="Arial"/>
                    </a:rPr>
                    <a:t> </a:t>
                  </a:r>
                  <a:r>
                    <a:rPr b="1" lang="en-GB" sz="1400" spc="-1" strike="noStrike">
                      <a:solidFill>
                        <a:srgbClr val="ffffff"/>
                      </a:solidFill>
                      <a:latin typeface="Times New Roman"/>
                    </a:rPr>
                    <a:t>дана</a:t>
                  </a:r>
                  <a:r>
                    <a:rPr b="1" lang="en-GB" sz="1400" spc="-1" strike="noStrike">
                      <a:solidFill>
                        <a:srgbClr val="ffffff"/>
                      </a:solidFill>
                      <a:latin typeface="Arial"/>
                    </a:rPr>
                    <a:t>  </a:t>
                  </a:r>
                  <a:r>
                    <a:rPr b="1" lang="en-GB" sz="1400" spc="-1" strike="noStrike">
                      <a:solidFill>
                        <a:srgbClr val="ffffff"/>
                      </a:solidFill>
                      <a:latin typeface="Times New Roman"/>
                    </a:rPr>
                    <a:t>до</a:t>
                  </a:r>
                  <a:r>
                    <a:rPr b="1" lang="en-GB" sz="1400" spc="-1" strike="noStrike">
                      <a:solidFill>
                        <a:srgbClr val="ffffff"/>
                      </a:solidFill>
                      <a:latin typeface="Arial"/>
                    </a:rPr>
                    <a:t> 6 </a:t>
                  </a:r>
                  <a:r>
                    <a:rPr b="1" lang="en-GB" sz="1400" spc="-1" strike="noStrike">
                      <a:solidFill>
                        <a:srgbClr val="ffffff"/>
                      </a:solidFill>
                      <a:latin typeface="Times New Roman"/>
                    </a:rPr>
                    <a:t>недеља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0" name="Rectangle 196"/>
                <p:cNvSpPr/>
                <p:nvPr/>
              </p:nvSpPr>
              <p:spPr>
                <a:xfrm>
                  <a:off x="6190560" y="3801960"/>
                  <a:ext cx="1200240" cy="155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1" name="Group 197"/>
              <p:cNvGrpSpPr/>
              <p:nvPr/>
            </p:nvGrpSpPr>
            <p:grpSpPr>
              <a:xfrm>
                <a:off x="7391160" y="3801960"/>
                <a:ext cx="1200240" cy="1553760"/>
                <a:chOff x="7391160" y="3801960"/>
                <a:chExt cx="1200240" cy="1553760"/>
              </a:xfrm>
            </p:grpSpPr>
            <p:sp>
              <p:nvSpPr>
                <p:cNvPr id="162" name="Rectangle 198"/>
                <p:cNvSpPr/>
                <p:nvPr/>
              </p:nvSpPr>
              <p:spPr>
                <a:xfrm>
                  <a:off x="7477920" y="3801960"/>
                  <a:ext cx="1027080" cy="155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5880" rIns="65880" tIns="32760" bIns="3276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400" spc="-1" strike="noStrike">
                      <a:solidFill>
                        <a:srgbClr val="ffffff"/>
                      </a:solidFill>
                      <a:latin typeface="Arial"/>
                    </a:rPr>
                    <a:t>3 - 4 </a:t>
                  </a:r>
                  <a:r>
                    <a:rPr b="1" lang="en-GB" sz="1400" spc="-1" strike="noStrike">
                      <a:solidFill>
                        <a:srgbClr val="ffffff"/>
                      </a:solidFill>
                      <a:latin typeface="Times New Roman"/>
                    </a:rPr>
                    <a:t>недеље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3" name="Rectangle 199"/>
                <p:cNvSpPr/>
                <p:nvPr/>
              </p:nvSpPr>
              <p:spPr>
                <a:xfrm>
                  <a:off x="7391160" y="3801960"/>
                  <a:ext cx="1200240" cy="155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4" name="Rectangle 200"/>
            <p:cNvSpPr/>
            <p:nvPr/>
          </p:nvSpPr>
          <p:spPr>
            <a:xfrm>
              <a:off x="1042920" y="1989000"/>
              <a:ext cx="7561440" cy="338472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26560" y="244440"/>
            <a:ext cx="80154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fffb7"/>
                </a:solidFill>
                <a:latin typeface="Times New Roman"/>
              </a:rPr>
              <a:t>Физикална терапиј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616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b7"/>
                </a:solidFill>
                <a:latin typeface="Times New Roman"/>
                <a:ea typeface="Times New Roman"/>
              </a:rPr>
              <a:t>У фази имобилизациј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634920" y="1904760"/>
            <a:ext cx="52102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ати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е контракције са тонусом који мора бити ве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ћ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 од 30% од тонуса у миру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лектростималције - сп обли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терферентне струј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агнетотерапија(високо фреквентно магнетно импулсно поље)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9423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b7"/>
                </a:solidFill>
                <a:latin typeface="Times New Roman"/>
                <a:ea typeface="Times New Roman"/>
              </a:rPr>
              <a:t>Физикална терапија након имобилизације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идроте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пијa са подв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д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им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сa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ж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м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у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 мaсa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ж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 дрена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жн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г тип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ф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арaфинотерапиј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абилнa галвaнизацiј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агнето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е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пиј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ерапијa радо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инез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eрапијa - само aктивне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ж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е /пасивне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 треба спровoдит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све док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лус није солидан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к нисмо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гурн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да немa остеoпорoзе ил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 спровoдит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уз опрезност/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00000" y="333000"/>
            <a:ext cx="7942320" cy="13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b7"/>
                </a:solidFill>
                <a:latin typeface="Times New Roman"/>
                <a:ea typeface="Times New Roman"/>
              </a:rPr>
              <a:t>Ендопротеза кука</a:t>
            </a:r>
            <a:r>
              <a:rPr b="1" lang="en-US" sz="4000" spc="-1" strike="noStrike">
                <a:solidFill>
                  <a:srgbClr val="ffffb7"/>
                </a:solidFill>
                <a:latin typeface="Times New Roman"/>
              </a:rPr>
              <a:t> </a:t>
            </a:r>
            <a:r>
              <a:rPr b="1" lang="sr-Latn-CS" sz="4000" spc="-1" strike="noStrike">
                <a:solidFill>
                  <a:srgbClr val="ffffb7"/>
                </a:solidFill>
                <a:latin typeface="Times New Roman"/>
              </a:rPr>
              <a:t>(</a:t>
            </a:r>
            <a:r>
              <a:rPr b="1" lang="en-GB" sz="4000" spc="-1" strike="noStrike">
                <a:solidFill>
                  <a:srgbClr val="ffffb7"/>
                </a:solidFill>
                <a:latin typeface="Times New Roman"/>
                <a:ea typeface="Times New Roman"/>
              </a:rPr>
              <a:t>Компликације</a:t>
            </a:r>
            <a:r>
              <a:rPr b="1" lang="sr-Latn-CS" sz="4000" spc="-1" strike="noStrike">
                <a:solidFill>
                  <a:srgbClr val="ffffb7"/>
                </a:solidFill>
                <a:latin typeface="Times New Roman"/>
              </a:rPr>
              <a:t>)</a:t>
            </a: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 </a:t>
            </a: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8088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22720" indent="-522720">
              <a:lnSpc>
                <a:spcPct val="90000"/>
              </a:lnSpc>
              <a:spcBef>
                <a:spcPts val="55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окoм oперацијe - фра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у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охантер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г масивa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90000"/>
              </a:lnSpc>
              <a:spcBef>
                <a:spcPts val="55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ношењe инфекц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јe интраопе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ивно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90000"/>
              </a:lnSpc>
              <a:spcBef>
                <a:spcPts val="55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правилно це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ри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нa е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пр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еза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90000"/>
              </a:lnSpc>
              <a:spcBef>
                <a:spcPts val="55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еком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р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и пр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ак нa 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цетабул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 што услoвља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а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ерозију 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скавице 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 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сније кости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90000"/>
              </a:lnSpc>
              <a:spcBef>
                <a:spcPts val="55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ко шипkа ендопрoтез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није добрo уг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ђ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нa долази 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 а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пор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ције кости 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 ње и н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абилност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кла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ћ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њa 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допрoтез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90000"/>
              </a:lnSpc>
              <a:spcBef>
                <a:spcPts val="55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но oптер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ћ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њe и неправилно дoзирано oптерe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ћ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њe мо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ж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 условит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 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разлaбљењe  eндопрoтез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90000"/>
              </a:lnSpc>
              <a:spcBef>
                <a:spcPts val="55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јавa болoва због нарушеnих д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метри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к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 однoса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уск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атуре;појавa oсиф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тa kоји мoгу премости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и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спојит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кос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 kарл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це са фeмуро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и напрaвит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0" lang="sr-Latn-C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р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р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дезу.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26560" y="244440"/>
            <a:ext cx="80154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ffffb7"/>
                </a:solidFill>
                <a:latin typeface="Times New Roman"/>
              </a:rPr>
              <a:t>ФИЗИКАЛНИ ТРЕТМАН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ретман поциње првог дана по операцији. Стајање и вертикализација запоциње су тре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ћ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г дана од операције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71640" y="33336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fffb7"/>
                </a:solidFill>
                <a:latin typeface="Times New Roman"/>
              </a:rPr>
              <a:t>СЕДЕЊЕ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75564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колико нема компликација пациј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е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т мо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ж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 петог дана од операције да седи.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вде је треба зна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јно лимитирати флексију у куку.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себне,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исоке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олице омогу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ћ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вају да се ти захтеви седења испуне а и да устајање буде олакшано.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ако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ђ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 треба избегавати у седењу повла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ње ноге уназад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26560" y="244440"/>
            <a:ext cx="80154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fffb7"/>
                </a:solidFill>
                <a:latin typeface="Times New Roman"/>
              </a:rPr>
              <a:t>Спавање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France YU"/>
                <a:ea typeface="Times New Roman"/>
              </a:rPr>
              <a:t>Примарно сви пацијенти лезе на ледјима уз лако абдуковане ноге при спавању.Сигурност лаке абдукције се мо</a:t>
            </a:r>
            <a:r>
              <a:rPr b="0" lang="sr-CS" sz="2400" spc="-1" strike="noStrike">
                <a:solidFill>
                  <a:srgbClr val="ffffff"/>
                </a:solidFill>
                <a:latin typeface="France YU"/>
                <a:ea typeface="Times New Roman"/>
              </a:rPr>
              <a:t>ж</a:t>
            </a:r>
            <a:r>
              <a:rPr b="0" lang="en-GB" sz="2400" spc="-1" strike="noStrike">
                <a:solidFill>
                  <a:srgbClr val="ffffff"/>
                </a:solidFill>
                <a:latin typeface="France YU"/>
                <a:ea typeface="Times New Roman"/>
              </a:rPr>
              <a:t>е осигурати и уметањем једног јастука измедју ногу.Окретање у кревету и друге покрете који укљу</a:t>
            </a:r>
            <a:r>
              <a:rPr b="0" lang="sr-CS" sz="2400" spc="-1" strike="noStrike">
                <a:solidFill>
                  <a:srgbClr val="ffffff"/>
                </a:solidFill>
                <a:latin typeface="France YU"/>
                <a:ea typeface="Times New Roman"/>
              </a:rPr>
              <a:t>ћ</a:t>
            </a:r>
            <a:r>
              <a:rPr b="0" lang="en-GB" sz="2400" spc="-1" strike="noStrike">
                <a:solidFill>
                  <a:srgbClr val="ffffff"/>
                </a:solidFill>
                <a:latin typeface="France YU"/>
                <a:ea typeface="Times New Roman"/>
              </a:rPr>
              <a:t>ују и кукове треба избегавати.Након 6 недеља мозе се слободније изводити окретање у кревету. .У првом месецу након операције треба максимално избегавати ле</a:t>
            </a:r>
            <a:r>
              <a:rPr b="0" lang="sr-CS" sz="2400" spc="-1" strike="noStrike">
                <a:solidFill>
                  <a:srgbClr val="ffffff"/>
                </a:solidFill>
                <a:latin typeface="France YU"/>
                <a:ea typeface="Times New Roman"/>
              </a:rPr>
              <a:t>ж</a:t>
            </a:r>
            <a:r>
              <a:rPr b="0" lang="en-GB" sz="2400" spc="-1" strike="noStrike">
                <a:solidFill>
                  <a:srgbClr val="ffffff"/>
                </a:solidFill>
                <a:latin typeface="France YU"/>
                <a:ea typeface="Times New Roman"/>
              </a:rPr>
              <a:t>ање на трбух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58880" y="26028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ffffb7"/>
                </a:solidFill>
                <a:latin typeface="Times New Roman"/>
              </a:rPr>
              <a:t>Забрањени покрети у првих 6 недеља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лексија у куку преко 90</a:t>
            </a:r>
            <a:r>
              <a:rPr b="0" lang="en-GB" sz="24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дукција кука преко средње линије тел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зразена спољна и унутрашња ротација кука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тивна абдукција (због слабости и ресекције абдуктора кука или великог троцантера па је потребно време до њиховог реституисања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63600" y="33336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b7"/>
                </a:solidFill>
                <a:latin typeface="Times New Roman"/>
                <a:ea typeface="Times New Roman"/>
              </a:rPr>
              <a:t>ПОВРЕДЕ МЕКИХ ТКИВА</a:t>
            </a: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7280" y="1876320"/>
            <a:ext cx="79567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5280" indent="-3952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нтузије миши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ћ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, тетива, нерава и зглобов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5280" indent="-3952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исторзије зглобов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5280" indent="-3952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истензије миши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ћ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 и лигаменат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5280" indent="-3952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арцијалне или комплетне руптуре миши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ћ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 и тетив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5280" indent="-3952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екција тетив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5280" indent="-3952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уксације зглобов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5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9423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fffb7"/>
                </a:solidFill>
                <a:latin typeface="Times New Roman"/>
              </a:rPr>
              <a:t>Дозвољено према времену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Дозвољен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одање са штакама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 месец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упање под тушем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сле 14 да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ливање у базену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сле 3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да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прављање путницким аутомобилом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сле 3 месец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ве зивотне активности за зивотну доб</a:t>
            </a:r>
            <a:br>
              <a:rPr sz="2400"/>
            </a:b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сле 3 месец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 појави болова узети аналгетике,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нтибиотике и NSAI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26560" y="244440"/>
            <a:ext cx="831708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fffb7"/>
                </a:solidFill>
                <a:latin typeface="Times New Roman"/>
              </a:rPr>
              <a:t>Упуство за свакодневни живот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Потребно је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ошење еластицних завоја или еластицних царап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прете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ж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о у току ходања или седења-скидање ноци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br>
              <a:rPr sz="2400"/>
            </a:b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 месец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едење на високој столици и адаптираном тоалету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br>
              <a:rPr sz="2400"/>
            </a:b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 месец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едење у кревету са испрузеним ногама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br>
              <a:rPr sz="2400"/>
            </a:b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 месец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вакодневно спроводјење нацених везби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br>
              <a:rPr sz="2400"/>
            </a:b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целог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ж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во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9423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fffb7"/>
                </a:solidFill>
                <a:latin typeface="Times New Roman"/>
              </a:rPr>
              <a:t>Закључак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 крају треба ре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</a:t>
            </a:r>
            <a:r>
              <a:rPr b="0" lang="en-GB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 да су лекар- оператор и физијатар обавезни да пацијенту издају код отпуста из болнице" протеза - пасош". Овај документ треба да садрзи све елементе везане за операцију, тип, вели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</a:t>
            </a:r>
            <a:r>
              <a:rPr b="0" lang="en-GB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у и друге специфи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</a:t>
            </a:r>
            <a:r>
              <a:rPr b="0" lang="en-GB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ости.</a:t>
            </a:r>
            <a:r>
              <a:rPr b="0" lang="sr-Latn-CS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вај докуемнт треба да слузи ради контролних прегледа, а посебно код контрола на аеродромима, јер се метални делови кроз сигурносне провере региструју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6688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fffb7"/>
                </a:solidFill>
                <a:latin typeface="Times New Roman"/>
              </a:rPr>
              <a:t>Подела повреда меких ткив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268360" y="1904760"/>
            <a:ext cx="46087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аза запаљењ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аза репарациј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26560" y="244440"/>
            <a:ext cx="80154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b7"/>
                </a:solidFill>
                <a:latin typeface="Times New Roman"/>
                <a:ea typeface="Times New Roman"/>
              </a:rPr>
              <a:t> </a:t>
            </a:r>
            <a:r>
              <a:rPr b="1" lang="en-GB" sz="4400" spc="-1" strike="noStrike">
                <a:solidFill>
                  <a:srgbClr val="ffffb7"/>
                </a:solidFill>
                <a:latin typeface="Times New Roman"/>
                <a:ea typeface="Times New Roman"/>
              </a:rPr>
              <a:t>Фаза запаљења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аза запаљења је код свих повреда реактивног типа на настали прекид нормалне функције. Повреда доводи до оштецења и изумирања целија повредјеног ткива. Из изумрлих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ћ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лија излазе лизозомни ензими који имају даљи утицај на распадање детритуса. Формирани хемијски елементи делују на околно ткиво. Долази до вазодилатације, ексудације те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ости у околно ткиво из крвних судова и лимфног тока. Ова фаза траје неколико дана, код лаких повреда, а код те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ж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х мо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ж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 трајати и до две недељ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26560" y="244440"/>
            <a:ext cx="80154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fffb7"/>
                </a:solidFill>
                <a:latin typeface="Times New Roman"/>
              </a:rPr>
              <a:t>Фаза репарације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руга фаза запо</a:t>
            </a:r>
            <a:r>
              <a:rPr b="0" lang="sr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ње 3 или 4 дана од повреде када долази до арборизације крвних судова тј. формирања капиларних пупољака, који се канализују и формирају нову капиларну мрезу. У поцетку су они пропустљивији него обицно, али због тога долази до лакшег одавања угрозеном ткиву кисеоника и хранљивих материја из новонасталих крвних судова. Истовремено поциње активност и фибробласта који полазу еластицна фиброзна влакна. На тај нацин поциње да се организује хематом који је у медјувремену фиброзирао јер је фибриноген под деловањем ослободјеног тромбина из тромбоцита условио прелаз у фибрин. Такодје овај фибрин је био и пребојен ослободјеним хемоглобином. Долази и до мењања боје оштеценог ткива од модро плаве до зуцкасте и на крају до обезбојавања. Формирана фиброзна влакна која су у по</a:t>
            </a:r>
            <a:r>
              <a:rPr b="0" lang="sr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тку еластицна, поцињу да се ретрахују задебљавају и прелазе у колегана влакна. Цео овај процес траје око две до три недељ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00000" y="692280"/>
            <a:ext cx="7942320" cy="98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b7"/>
                </a:solidFill>
                <a:latin typeface="France YU"/>
                <a:ea typeface="Times New Roman"/>
              </a:rPr>
              <a:t>Рехабилитација</a:t>
            </a: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хабилитација повреда меких ткива има за основни циљ да спреци настанак грубог озиљног ткива које мозе довести до знатнијег оштецења функциј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 првој фази основно је спрецити крварење и развој едема а што се постизе криотерапијом, елевацијом и компресивним завојем. Овакав приступ условљава смањење бола и спазма околних мишиц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кон 24 - 48 сати после трауме треба побољшати периферну циркулацију, поспешити ресорпцију еxтравазата, смањење бола, успостављање физиолошке покретљивости и успостављање мишицне снаг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26920" y="620280"/>
            <a:ext cx="77724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b7"/>
                </a:solidFill>
                <a:latin typeface="Times New Roman"/>
                <a:ea typeface="Times New Roman"/>
              </a:rPr>
              <a:t>Физикалне мере</a:t>
            </a: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616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дем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2700360" y="1904760"/>
            <a:ext cx="61452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риотерапиј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изменицне купк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ртолозне купк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нодна галванизациј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арафинска паковањ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f</a:t>
            </a:r>
            <a:r>
              <a:rPr b="0" lang="sr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KJ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 /sp облик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fs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агнетотерапиј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у</a:t>
            </a:r>
            <a:r>
              <a:rPr b="0" lang="sr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 масаза /дреназног типа/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инезитерапиј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26560" y="244440"/>
            <a:ext cx="80154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ffffb7"/>
                </a:solidFill>
                <a:latin typeface="Times New Roman"/>
              </a:rPr>
              <a:t>Физикалне мере</a:t>
            </a:r>
            <a:r>
              <a:rPr b="1" lang="en-US" sz="4400" spc="-1" strike="noStrike">
                <a:solidFill>
                  <a:srgbClr val="ffffb7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616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Бол</a:t>
            </a:r>
            <a:r>
              <a:rPr b="1" lang="en-GB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2916360" y="1904760"/>
            <a:ext cx="59292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ритемне дозе ув зра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нодна галванизациј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ф ново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и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д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енс терапиј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6560" y="244440"/>
            <a:ext cx="80154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fffb7"/>
                </a:solidFill>
                <a:latin typeface="Times New Roman"/>
              </a:rPr>
              <a:t>Физикалне мере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616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Рефлексне дистрофиј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76360" y="1904760"/>
            <a:ext cx="55688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узбити бол /као горе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УЗ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на ганглион стеллатум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рансцереблана галванизациј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инезитерапија уз мере опрез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фс + магнетотерапиј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ерапија радо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сихотерапија</a:t>
            </a:r>
            <a:r>
              <a:rPr b="1" lang="en-GB" sz="2400" spc="-1" strike="noStrike">
                <a:solidFill>
                  <a:srgbClr val="ffffff"/>
                </a:solidFill>
                <a:latin typeface="France YU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France YU"/>
                <a:ea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7T12:07:36Z</dcterms:created>
  <dc:creator>WIN98SE</dc:creator>
  <dc:description/>
  <dc:language>en-US</dc:language>
  <cp:lastModifiedBy>katarinaparezanovicilic@gmail.com</cp:lastModifiedBy>
  <dcterms:modified xsi:type="dcterms:W3CDTF">2020-09-26T17:01:45Z</dcterms:modified>
  <cp:revision>14</cp:revision>
  <dc:subject/>
  <dc:title>Rehabilitacija traumatoloških bolesnika</dc:title>
</cp:coreProperties>
</file>